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gif" ContentType="image/gif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67122-6310-4FED-A1FA-34887E6857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4571640"/>
            <a:ext cx="62481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04920" y="4419720"/>
            <a:ext cx="632448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4343040"/>
            <a:ext cx="609588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43000" y="4267080"/>
            <a:ext cx="4495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’re growing (one-third) over the past decade, however, demographically we’re staying relatively in the same propor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tion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 =  7,157 (budget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lain" startAt="198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8,746 (budget) (22.2% incr from 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lain" startAt="199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9,110 (census- budget) (4.2% incr from 19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= 12,019 (census) (31.9% incr from 19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using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 = 3,311 (community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= 3,619 (community development) (9.3% incr from 19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= 4,825 (census data) (33.3% incr from 19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37BB-A381-43B6-9B1B-B8A984691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FFEB-2D65-4CBB-941A-6607FF47B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28AF1-B9C2-4187-AA37-A7F8D10F4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4F46-7C3E-44FB-B3C7-EFCEC01C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0D1D-0F6D-4231-95BA-C838184B7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50CCE-5CE2-4B66-91BB-F9BCE61E9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24B5-59CE-4141-AAD8-E4FFEA53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39411-7817-46DC-9E2C-CEE0EFEB4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3C0A-AA6A-478B-A2BE-3763CBB2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E7407-9D39-4DDA-92F6-332A5ADD9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06DE-5C58-4780-BAC6-E33667E9B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5B31-947F-4FF8-9367-52DE2DF1D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E4742-4ECF-4192-9F5A-C53C8068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879B5-33C0-41F4-BD01-5E0D2E12E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FD8A1-498A-4730-87A7-9C42DFA80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D6F0D-3A5E-4CF7-A7C5-5AFF35EA7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22845-DC2D-4845-AC61-2CF5D78EA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34FC-6D22-4E25-8393-6D11EA5A8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7512D-24DD-486E-A7D1-0EF8CBC02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C57-3EDA-4003-8D28-590B09C0B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7A5F1-31F4-460B-AD43-E932E7E1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F072-8F7E-4B93-8DD0-8A18A368B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A7E2-56CC-4733-9BEF-C0F800B1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7E41-F0CA-4FEC-A030-C3147E24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8080"/>
              </a:gs>
              <a:gs pos="100000">
                <a:srgbClr val="b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27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9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7580A-B09C-493A-8AE3-71A82E639E4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8080"/>
              </a:gs>
              <a:gs pos="100000">
                <a:srgbClr val="b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27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9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FCCD-1F93-426B-8851-2E5129FB7EF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886200" y="380880"/>
          <a:ext cx="457200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80880"/>
                    <a:ext cx="4572000" cy="4164120"/>
                  </a:xfrm>
                  <a:prstGeom prst="rect">
                    <a:avLst/>
                  </a:prstGeom>
                  <a:ln w="76320">
                    <a:solidFill>
                      <a:srgbClr val="b098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4768560"/>
            <a:ext cx="4800600" cy="1477080"/>
          </a:xfrm>
          <a:prstGeom prst="rect">
            <a:avLst/>
          </a:prstGeom>
          <a:solidFill>
            <a:srgbClr val="827c66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001 Citizen Surv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45720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152388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el the City is well-manag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1371600"/>
            <a:ext cx="1600200" cy="10666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5.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666880"/>
            <a:ext cx="74674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well does the City Government op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6680" y="2971800"/>
          <a:ext cx="7086600" cy="35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708660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781680" y="3505320"/>
            <a:ext cx="1295640" cy="641160"/>
          </a:xfrm>
          <a:prstGeom prst="rect">
            <a:avLst/>
          </a:prstGeom>
          <a:solidFill>
            <a:srgbClr val="808000"/>
          </a:solidFill>
          <a:ln w="19080">
            <a:solidFill>
              <a:srgbClr val="827c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5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419720"/>
            <a:ext cx="1295280" cy="641160"/>
          </a:xfrm>
          <a:prstGeom prst="rect">
            <a:avLst/>
          </a:prstGeom>
          <a:solidFill>
            <a:srgbClr val="808000"/>
          </a:solidFill>
          <a:ln w="19080">
            <a:solidFill>
              <a:srgbClr val="827c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4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632448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Public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2971800"/>
            <a:ext cx="541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overall quality of Police service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1676520"/>
            <a:ext cx="556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overall quality of Fire/EMS service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6019920"/>
            <a:ext cx="7086600" cy="5806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6 survey Fire/EMS 100%, Police 94.3%, Felt safe 92%.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600200"/>
            <a:ext cx="1535040" cy="1069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22320">
            <a:solidFill>
              <a:srgbClr val="827c66"/>
            </a:solidFill>
            <a:miter/>
          </a:ln>
          <a:effectLst>
            <a:outerShdw dist="17819" dir="2700000" blurRad="0" rotWithShape="0">
              <a:srgbClr val="4d4a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9.6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297180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22320">
            <a:solidFill>
              <a:srgbClr val="827c66"/>
            </a:solidFill>
            <a:miter/>
          </a:ln>
          <a:effectLst>
            <a:outerShdw dist="17819" dir="2700000" blurRad="0" rotWithShape="0">
              <a:srgbClr val="4d4a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1.2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4343400"/>
            <a:ext cx="6019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 that they feel safe or very safe in the City of Maitla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34340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14600"/>
              </a:gs>
              <a:gs pos="50000">
                <a:srgbClr val="b09800"/>
              </a:gs>
              <a:gs pos="100000">
                <a:srgbClr val="514600"/>
              </a:gs>
            </a:gsLst>
            <a:lin ang="5400000"/>
          </a:gradFill>
          <a:ln w="25560">
            <a:solidFill>
              <a:srgbClr val="996633"/>
            </a:solidFill>
            <a:miter/>
          </a:ln>
          <a:effectLst>
            <a:outerShdw dist="17819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1.8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523880"/>
            <a:ext cx="5715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the appearance of Maitland Parks a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523880"/>
            <a:ext cx="2143080" cy="1067040"/>
          </a:xfrm>
          <a:custGeom>
            <a:avLst/>
            <a:gdLst>
              <a:gd name="textAreaLeft" fmla="*/ 535680 w 2143080"/>
              <a:gd name="textAreaRight" fmla="*/ 1607400 w 2143080"/>
              <a:gd name="textAreaTop" fmla="*/ 0 h 1067040"/>
              <a:gd name="textAreaBottom" fmla="*/ 933840 h 10670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158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5.6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124080"/>
            <a:ext cx="312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2.3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ted the quality of Maitland Parks as good or very good in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cc-mastplan26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3581280" cy="2686320"/>
          </a:xfrm>
          <a:prstGeom prst="rect">
            <a:avLst/>
          </a:prstGeom>
          <a:ln w="57240">
            <a:solidFill>
              <a:srgbClr val="827c66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447920" y="5486400"/>
            <a:ext cx="655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survey results to be discussed late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04920" y="1371600"/>
          <a:ext cx="8076960" cy="474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0769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Cul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447920"/>
            <a:ext cx="6858000" cy="4291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ltural Groups Satisfaction Comparis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96080" y="2286000"/>
            <a:ext cx="1447920" cy="68256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21.3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3276720"/>
            <a:ext cx="1447920" cy="64260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35.6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4191120"/>
            <a:ext cx="13716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8.7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66680" y="1085040"/>
            <a:ext cx="7315200" cy="44424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idents rate the quality of their drinking wat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5800" y="4495680"/>
            <a:ext cx="5562720" cy="2041560"/>
            <a:chOff x="685800" y="4495680"/>
            <a:chExt cx="5562720" cy="2041560"/>
          </a:xfrm>
        </p:grpSpPr>
        <p:sp>
          <p:nvSpPr>
            <p:cNvPr id="195" name=""/>
            <p:cNvSpPr/>
            <p:nvPr/>
          </p:nvSpPr>
          <p:spPr>
            <a:xfrm>
              <a:off x="685800" y="49348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4.5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800" y="552096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47.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61066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2.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0" y="610812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4.8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000" y="49348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3.2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552096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38.8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4495680"/>
              <a:ext cx="1066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2320" y="4495680"/>
              <a:ext cx="1066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640" y="493488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ery 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7600" y="552096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1640" y="6108120"/>
              <a:ext cx="266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oor/Very 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6" name="ag00180_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2210040" cy="1284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2819520" y="1600200"/>
            <a:ext cx="5715000" cy="2105280"/>
            <a:chOff x="2819520" y="1600200"/>
            <a:chExt cx="5715000" cy="2105280"/>
          </a:xfrm>
        </p:grpSpPr>
        <p:grpSp>
          <p:nvGrpSpPr>
            <p:cNvPr id="208" name=""/>
            <p:cNvGrpSpPr/>
            <p:nvPr/>
          </p:nvGrpSpPr>
          <p:grpSpPr>
            <a:xfrm>
              <a:off x="5715000" y="1600200"/>
              <a:ext cx="2819520" cy="2105280"/>
              <a:chOff x="5715000" y="1600200"/>
              <a:chExt cx="2819520" cy="2105280"/>
            </a:xfrm>
          </p:grpSpPr>
          <p:sp>
            <p:nvSpPr>
              <p:cNvPr id="209" name=""/>
              <p:cNvSpPr/>
              <p:nvPr/>
            </p:nvSpPr>
            <p:spPr>
              <a:xfrm>
                <a:off x="5715000" y="205704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8.8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15000" y="266688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41.1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15000" y="327636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5.3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15200" y="327636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9.8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15200" y="205704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9.5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15200" y="266688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44.9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91320" y="1600200"/>
                <a:ext cx="1066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2001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91520" y="1600200"/>
                <a:ext cx="1066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429000" y="213336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ery 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9000" y="274320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19520" y="3276360"/>
              <a:ext cx="266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oor/Very 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066680" y="3904560"/>
            <a:ext cx="7315200" cy="44424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idents rate the quality of Maitland lak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2860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4800600"/>
            <a:ext cx="2819160" cy="78552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opinion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 14.5% ,1996 25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5867280"/>
            <a:ext cx="281916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019560" cy="76176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Str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447920"/>
          <a:ext cx="8686800" cy="43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6868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7086600" y="1828800"/>
            <a:ext cx="1676520" cy="590400"/>
          </a:xfrm>
          <a:prstGeom prst="rect">
            <a:avLst/>
          </a:prstGeom>
          <a:solidFill>
            <a:srgbClr val="808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Poor/Very Poor 5.7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2819520"/>
            <a:ext cx="1752840" cy="60948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 Poor/Very Poor 4.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3886200"/>
            <a:ext cx="1752480" cy="590400"/>
          </a:xfrm>
          <a:prstGeom prst="rect">
            <a:avLst/>
          </a:prstGeom>
          <a:solidFill>
            <a:srgbClr val="00808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 Poor/Very Poor 8.3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5486400"/>
            <a:ext cx="1371600" cy="52848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Very Go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562720"/>
            <a:ext cx="1218960" cy="45216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43400" y="4800240"/>
            <a:ext cx="0" cy="76212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400800" y="4800240"/>
            <a:ext cx="0" cy="6858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bd05679_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1676160" cy="1622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Electric Reliability and Undergr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62120" y="1295280"/>
          <a:ext cx="7238880" cy="36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2388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90720" y="1295280"/>
            <a:ext cx="7238880" cy="459720"/>
          </a:xfrm>
          <a:prstGeom prst="rect">
            <a:avLst/>
          </a:prstGeom>
          <a:solidFill>
            <a:srgbClr val="800000"/>
          </a:solidFill>
          <a:ln w="158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iability of  Electr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2057400"/>
            <a:ext cx="990720" cy="457200"/>
          </a:xfrm>
          <a:prstGeom prst="rect">
            <a:avLst/>
          </a:prstGeom>
          <a:solidFill>
            <a:srgbClr val="b09800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3048120"/>
            <a:ext cx="1066680" cy="457200"/>
          </a:xfrm>
          <a:prstGeom prst="rect">
            <a:avLst/>
          </a:prstGeom>
          <a:solidFill>
            <a:srgbClr val="b09800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76560" y="3123720"/>
            <a:ext cx="2057400" cy="457560"/>
            <a:chOff x="4876560" y="3123720"/>
            <a:chExt cx="2057400" cy="457560"/>
          </a:xfrm>
        </p:grpSpPr>
        <p:sp>
          <p:nvSpPr>
            <p:cNvPr id="243" name=""/>
            <p:cNvSpPr/>
            <p:nvPr/>
          </p:nvSpPr>
          <p:spPr>
            <a:xfrm flipH="1">
              <a:off x="4876560" y="3276360"/>
              <a:ext cx="2057400" cy="3049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867280" y="3123720"/>
              <a:ext cx="1066680" cy="1522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962160" y="2133360"/>
            <a:ext cx="3810240" cy="533160"/>
            <a:chOff x="3962160" y="2133360"/>
            <a:chExt cx="3810240" cy="533160"/>
          </a:xfrm>
        </p:grpSpPr>
        <p:sp>
          <p:nvSpPr>
            <p:cNvPr id="246" name=""/>
            <p:cNvSpPr/>
            <p:nvPr/>
          </p:nvSpPr>
          <p:spPr>
            <a:xfrm flipH="1">
              <a:off x="3962160" y="2286000"/>
              <a:ext cx="3809880" cy="3805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6858000" y="2133360"/>
              <a:ext cx="914400" cy="1522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7200" y="4952880"/>
            <a:ext cx="2743200" cy="703800"/>
          </a:xfrm>
          <a:prstGeom prst="rect">
            <a:avLst/>
          </a:prstGeom>
          <a:solidFill>
            <a:srgbClr val="827c66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to bury utility lines throughout 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943600"/>
            <a:ext cx="2743200" cy="703800"/>
          </a:xfrm>
          <a:prstGeom prst="rect">
            <a:avLst/>
          </a:prstGeom>
          <a:solidFill>
            <a:srgbClr val="b098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if it meant an increase in ta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5791320"/>
            <a:ext cx="51818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5181480"/>
            <a:ext cx="0" cy="129564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4572000"/>
            <a:ext cx="1143000" cy="366840"/>
          </a:xfrm>
          <a:prstGeom prst="rect">
            <a:avLst/>
          </a:prstGeom>
          <a:solidFill>
            <a:srgbClr val="8080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86600" y="4572000"/>
            <a:ext cx="1143000" cy="366840"/>
          </a:xfrm>
          <a:prstGeom prst="rect">
            <a:avLst/>
          </a:prstGeom>
          <a:solidFill>
            <a:srgbClr val="8080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5241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70.7%  No 18.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65%  No 1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6095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55.6%  No 32.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6095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53%  No 1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14400" y="228600"/>
            <a:ext cx="7848720" cy="914400"/>
          </a:xfrm>
          <a:prstGeom prst="rect">
            <a:avLst/>
          </a:prstGeom>
          <a:noFill/>
          <a:ln w="12600">
            <a:solidFill>
              <a:srgbClr val="996633"/>
            </a:solidFill>
            <a:miter/>
          </a:ln>
          <a:effectLst>
            <a:outerShdw dist="153753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op 5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(% of respondents who state that an initiative is very important or importa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1295280"/>
            <a:ext cx="8534520" cy="914400"/>
            <a:chOff x="609480" y="1295280"/>
            <a:chExt cx="8534520" cy="914400"/>
          </a:xfrm>
        </p:grpSpPr>
        <p:sp>
          <p:nvSpPr>
            <p:cNvPr id="260" name=""/>
            <p:cNvSpPr/>
            <p:nvPr/>
          </p:nvSpPr>
          <p:spPr>
            <a:xfrm>
              <a:off x="1981080" y="1295280"/>
              <a:ext cx="716292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1.  A program to improve the quality of lake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1295280"/>
              <a:ext cx="121932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75.6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143000" y="2362320"/>
            <a:ext cx="8229600" cy="868320"/>
            <a:chOff x="1143000" y="2362320"/>
            <a:chExt cx="8229600" cy="868320"/>
          </a:xfrm>
        </p:grpSpPr>
        <p:sp>
          <p:nvSpPr>
            <p:cNvPr id="263" name=""/>
            <p:cNvSpPr/>
            <p:nvPr/>
          </p:nvSpPr>
          <p:spPr>
            <a:xfrm>
              <a:off x="2514600" y="2362320"/>
              <a:ext cx="6858000" cy="8683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2. Burying power lines throughout the city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43000" y="2362320"/>
              <a:ext cx="1219320" cy="8683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8.8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3429000"/>
            <a:ext cx="7924680" cy="914400"/>
            <a:chOff x="533520" y="3429000"/>
            <a:chExt cx="7924680" cy="914400"/>
          </a:xfrm>
        </p:grpSpPr>
        <p:sp>
          <p:nvSpPr>
            <p:cNvPr id="266" name=""/>
            <p:cNvSpPr/>
            <p:nvPr/>
          </p:nvSpPr>
          <p:spPr>
            <a:xfrm>
              <a:off x="1905120" y="3429000"/>
              <a:ext cx="6553080" cy="91440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3. More recreational programs for youth between 12 and 18 years of ag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3429000"/>
              <a:ext cx="1218960" cy="91440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2.3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43000" y="4572000"/>
            <a:ext cx="7924680" cy="868320"/>
            <a:chOff x="1143000" y="4572000"/>
            <a:chExt cx="7924680" cy="868320"/>
          </a:xfrm>
        </p:grpSpPr>
        <p:sp>
          <p:nvSpPr>
            <p:cNvPr id="269" name=""/>
            <p:cNvSpPr/>
            <p:nvPr/>
          </p:nvSpPr>
          <p:spPr>
            <a:xfrm>
              <a:off x="2514600" y="4572000"/>
              <a:ext cx="6553080" cy="86832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4. Improvements to the 17-92 corridor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4572000"/>
              <a:ext cx="1219320" cy="86832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0.2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57200" y="5638680"/>
            <a:ext cx="8305920" cy="914400"/>
            <a:chOff x="457200" y="5638680"/>
            <a:chExt cx="8305920" cy="914400"/>
          </a:xfrm>
        </p:grpSpPr>
        <p:sp>
          <p:nvSpPr>
            <p:cNvPr id="272" name=""/>
            <p:cNvSpPr/>
            <p:nvPr/>
          </p:nvSpPr>
          <p:spPr>
            <a:xfrm>
              <a:off x="1828800" y="5638680"/>
              <a:ext cx="6934320" cy="9144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5. More recreational programs for children between 6 and 11 years of ag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5638680"/>
              <a:ext cx="1219320" cy="9144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8.8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14400" y="228600"/>
            <a:ext cx="7848720" cy="762120"/>
          </a:xfrm>
          <a:prstGeom prst="rect">
            <a:avLst/>
          </a:prstGeom>
          <a:noFill/>
          <a:ln w="12600">
            <a:solidFill>
              <a:srgbClr val="996633"/>
            </a:solidFill>
            <a:miter/>
          </a:ln>
          <a:effectLst>
            <a:outerShdw dist="153753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Next 5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3520" y="1219320"/>
            <a:ext cx="8076960" cy="914400"/>
            <a:chOff x="533520" y="1219320"/>
            <a:chExt cx="8076960" cy="914400"/>
          </a:xfrm>
        </p:grpSpPr>
        <p:sp>
          <p:nvSpPr>
            <p:cNvPr id="276" name=""/>
            <p:cNvSpPr/>
            <p:nvPr/>
          </p:nvSpPr>
          <p:spPr>
            <a:xfrm>
              <a:off x="1905120" y="1219320"/>
              <a:ext cx="670536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6. Improve the appearance of Downtown Maitlan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520" y="1219320"/>
              <a:ext cx="121896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8.5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990720" y="2362320"/>
            <a:ext cx="7467480" cy="914400"/>
            <a:chOff x="990720" y="2362320"/>
            <a:chExt cx="7467480" cy="914400"/>
          </a:xfrm>
        </p:grpSpPr>
        <p:sp>
          <p:nvSpPr>
            <p:cNvPr id="279" name=""/>
            <p:cNvSpPr/>
            <p:nvPr/>
          </p:nvSpPr>
          <p:spPr>
            <a:xfrm>
              <a:off x="2362320" y="2362320"/>
              <a:ext cx="6095880" cy="91440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7. Adding new sidewalks where none currently exist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90720" y="2362320"/>
              <a:ext cx="1218960" cy="91440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4.4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57200" y="3505320"/>
            <a:ext cx="6477120" cy="868320"/>
            <a:chOff x="457200" y="3505320"/>
            <a:chExt cx="6477120" cy="868320"/>
          </a:xfrm>
        </p:grpSpPr>
        <p:sp>
          <p:nvSpPr>
            <p:cNvPr id="282" name=""/>
            <p:cNvSpPr/>
            <p:nvPr/>
          </p:nvSpPr>
          <p:spPr>
            <a:xfrm>
              <a:off x="1828800" y="3505320"/>
              <a:ext cx="5105520" cy="86832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8. Improving existing sidewalk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3505320"/>
              <a:ext cx="1219320" cy="86832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3.6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914400" y="4572000"/>
            <a:ext cx="8001000" cy="914400"/>
            <a:chOff x="914400" y="4572000"/>
            <a:chExt cx="8001000" cy="914400"/>
          </a:xfrm>
        </p:grpSpPr>
        <p:sp>
          <p:nvSpPr>
            <p:cNvPr id="285" name=""/>
            <p:cNvSpPr/>
            <p:nvPr/>
          </p:nvSpPr>
          <p:spPr>
            <a:xfrm>
              <a:off x="2286000" y="4572000"/>
              <a:ext cx="6629400" cy="91440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9. Increased City of Maitland involvement in regional transportation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400" y="4572000"/>
              <a:ext cx="1219320" cy="91440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7.2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200" y="5791320"/>
            <a:ext cx="7848720" cy="914040"/>
            <a:chOff x="457200" y="5791320"/>
            <a:chExt cx="7848720" cy="914040"/>
          </a:xfrm>
        </p:grpSpPr>
        <p:sp>
          <p:nvSpPr>
            <p:cNvPr id="288" name=""/>
            <p:cNvSpPr/>
            <p:nvPr/>
          </p:nvSpPr>
          <p:spPr>
            <a:xfrm>
              <a:off x="1828800" y="5791320"/>
              <a:ext cx="6477120" cy="9108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10. Expanding the Library to increase holding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" y="5791320"/>
              <a:ext cx="1219320" cy="91404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49.4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38088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upport for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5715000"/>
            <a:ext cx="8153280" cy="82404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ing appearance of 17-92 through landscaping/medians/sidewalks was asked using the following scale: very important/important/somewhat important/not important/can’t say. All other items based on: yes/no/can’t s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371600"/>
            <a:ext cx="746784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 for Municipal Initiatives compared to support if taxes were to incr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28600" y="1523880"/>
          <a:ext cx="89154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9154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Citizen Survey 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ribes the methodology used to conduct the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splays the highlights of the 2001 Citizen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vides General Conclu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762120"/>
            <a:ext cx="7848720" cy="75888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is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cc-mastplan25" descr=""/>
          <p:cNvPicPr/>
          <p:nvPr/>
        </p:nvPicPr>
        <p:blipFill>
          <a:blip r:embed="rId1"/>
          <a:stretch/>
        </p:blipFill>
        <p:spPr>
          <a:xfrm>
            <a:off x="6324480" y="4495680"/>
            <a:ext cx="2590920" cy="19432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pic>
        <p:nvPicPr>
          <p:cNvPr id="102" name="summit_parking12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2590920" cy="19432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pic>
        <p:nvPicPr>
          <p:cNvPr id="103" name="cc-mastplan11" descr=""/>
          <p:cNvPicPr/>
          <p:nvPr/>
        </p:nvPicPr>
        <p:blipFill>
          <a:blip r:embed="rId3"/>
          <a:stretch/>
        </p:blipFill>
        <p:spPr>
          <a:xfrm>
            <a:off x="3508200" y="4495680"/>
            <a:ext cx="2587680" cy="1941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38080" y="380520"/>
            <a:ext cx="7848720" cy="7621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ommun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1376280"/>
            <a:ext cx="7467840" cy="825480"/>
          </a:xfrm>
          <a:prstGeom prst="rect">
            <a:avLst/>
          </a:prstGeom>
          <a:solidFill>
            <a:srgbClr val="993300"/>
          </a:solidFill>
          <a:ln w="1260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4.1% of residents have had contact with the City within the last 6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274320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ate the courtesy of City of Maitland employees as very good or goo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2362320"/>
            <a:ext cx="1676160" cy="1676160"/>
          </a:xfrm>
          <a:prstGeom prst="irregularSeal1">
            <a:avLst/>
          </a:prstGeom>
          <a:solidFill>
            <a:srgbClr val="99663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82.3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886200"/>
            <a:ext cx="1676520" cy="1676520"/>
          </a:xfrm>
          <a:prstGeom prst="irregularSeal1">
            <a:avLst/>
          </a:prstGeom>
          <a:solidFill>
            <a:srgbClr val="99663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85.9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42670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ate the helpfulness of City of Maitland employees as very good or goo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5856840"/>
            <a:ext cx="7467480" cy="703800"/>
          </a:xfrm>
          <a:prstGeom prst="rect">
            <a:avLst/>
          </a:prstGeom>
          <a:solidFill>
            <a:srgbClr val="993300"/>
          </a:solidFill>
          <a:ln w="1260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.6% resident had contact with the City in person, 30.3% by phone,3% e-mail, 3.5% mail, 2.6%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7621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ommun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51055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e the Tempo, the City’s newsletter as very good or go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6248520"/>
            <a:ext cx="7010640" cy="398880"/>
          </a:xfrm>
          <a:prstGeom prst="rect">
            <a:avLst/>
          </a:prstGeom>
          <a:solidFill>
            <a:srgbClr val="827c66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.5% of respondents have no opinion regarding the Tem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4840" y="5167080"/>
            <a:ext cx="1630440" cy="714240"/>
          </a:xfrm>
          <a:prstGeom prst="ellipse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5.4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1447920"/>
            <a:ext cx="784872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ents preference on method of communication to learn about the 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80880" y="1828800"/>
          <a:ext cx="7162920" cy="35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71629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553080" y="2743200"/>
            <a:ext cx="2590920" cy="871560"/>
          </a:xfrm>
          <a:prstGeom prst="rect">
            <a:avLst/>
          </a:prstGeom>
          <a:solidFill>
            <a:srgbClr val="b098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72.8% no opinion/don’t know when asked to rate the City Websi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90720" y="2133720"/>
            <a:ext cx="7467480" cy="236196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7632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eestyle Script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30492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following individuals supported to this project: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914400"/>
            <a:ext cx="8763120" cy="190512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Evan Berma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Ph.D., who conducted and presented the surve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Amy Easti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OMB Analyst, who developed these slid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Michelle delVall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OMB Manager, who oversaw this projec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4343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n Sprag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ity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3200400"/>
          <a:ext cx="275760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00400"/>
                    <a:ext cx="2757600" cy="3375000"/>
                  </a:xfrm>
                  <a:prstGeom prst="rect">
                    <a:avLst/>
                  </a:prstGeom>
                  <a:ln w="5724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Brian%20Jones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214720" cy="315900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3886200" y="1066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an J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sistant City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281952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nna William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City Cler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ynda Denni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Finance Dir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vid Tome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Community Development Dir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ief Edward Doy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Police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ief Dan Hardest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Fire &amp; Building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 Smith,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arks &amp; Recreation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ny Leffi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Public Works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of Maitland Mayor and Cou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groupcouncilphoto" descr=""/>
          <p:cNvPicPr/>
          <p:nvPr/>
        </p:nvPicPr>
        <p:blipFill>
          <a:blip r:embed="rId1"/>
          <a:stretch/>
        </p:blipFill>
        <p:spPr>
          <a:xfrm>
            <a:off x="762120" y="1782720"/>
            <a:ext cx="5333760" cy="4270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grpSp>
        <p:nvGrpSpPr>
          <p:cNvPr id="321" name=""/>
          <p:cNvGrpSpPr/>
          <p:nvPr/>
        </p:nvGrpSpPr>
        <p:grpSpPr>
          <a:xfrm>
            <a:off x="6248520" y="1905120"/>
            <a:ext cx="2895480" cy="3980160"/>
            <a:chOff x="6248520" y="1905120"/>
            <a:chExt cx="2895480" cy="3980160"/>
          </a:xfrm>
        </p:grpSpPr>
        <p:sp>
          <p:nvSpPr>
            <p:cNvPr id="322" name=""/>
            <p:cNvSpPr/>
            <p:nvPr/>
          </p:nvSpPr>
          <p:spPr>
            <a:xfrm>
              <a:off x="6248520" y="19051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yor, Sascha Rizz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3080" y="251460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ice Mayor, Keith Whi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53080" y="335268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Tom Holle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3080" y="4191120"/>
              <a:ext cx="221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Rick Baldocch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53080" y="5181480"/>
              <a:ext cx="221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  Dr. David Libe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685440"/>
            <a:ext cx="7848360" cy="76212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Freestyle Script"/>
              </a:rPr>
              <a:t>Why a survey? 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133720"/>
            <a:ext cx="7010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vides the City with citizen perception of community conditions and municipal services that can be used for strengthening existing programs and developing new effor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h01992j" descr=""/>
          <p:cNvPicPr/>
          <p:nvPr/>
        </p:nvPicPr>
        <p:blipFill>
          <a:blip r:embed="rId1"/>
          <a:stretch/>
        </p:blipFill>
        <p:spPr>
          <a:xfrm>
            <a:off x="6477120" y="5181480"/>
            <a:ext cx="968400" cy="146232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7" name="ph01975j" descr=""/>
          <p:cNvPicPr/>
          <p:nvPr/>
        </p:nvPicPr>
        <p:blipFill>
          <a:blip r:embed="rId2"/>
          <a:stretch/>
        </p:blipFill>
        <p:spPr>
          <a:xfrm>
            <a:off x="5105520" y="5181480"/>
            <a:ext cx="965160" cy="144792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8" name="ph01984j" descr=""/>
          <p:cNvPicPr/>
          <p:nvPr/>
        </p:nvPicPr>
        <p:blipFill>
          <a:blip r:embed="rId3"/>
          <a:stretch/>
        </p:blipFill>
        <p:spPr>
          <a:xfrm>
            <a:off x="3733920" y="5181480"/>
            <a:ext cx="968400" cy="146700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9" name="ph02019j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968400" cy="146700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76212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How Survey was condu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523880"/>
            <a:ext cx="7467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rvey was developed with input from city government staf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items based on the 1996 survey (comparis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were collected through telephone interview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dom dialing was used to ensure a valid sample (representative) of City of Maitland resid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ple size is 33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s00243_" descr=""/>
          <p:cNvPicPr/>
          <p:nvPr/>
        </p:nvPicPr>
        <p:blipFill>
          <a:blip r:embed="rId1"/>
          <a:stretch/>
        </p:blipFill>
        <p:spPr>
          <a:xfrm>
            <a:off x="7543800" y="4800600"/>
            <a:ext cx="13208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848720" cy="76176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urvey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371600"/>
          <a:ext cx="8077320" cy="240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77320" cy="2406600"/>
                  </a:xfrm>
                  <a:prstGeom prst="rect">
                    <a:avLst/>
                  </a:prstGeom>
                  <a:ln w="7632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066680" y="4038480"/>
          <a:ext cx="7239240" cy="150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038480"/>
                    <a:ext cx="7239240" cy="1503360"/>
                  </a:xfrm>
                  <a:prstGeom prst="rect">
                    <a:avLst/>
                  </a:prstGeom>
                  <a:ln w="7632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62120" y="5867280"/>
            <a:ext cx="7772400" cy="762120"/>
          </a:xfrm>
          <a:prstGeom prst="rect">
            <a:avLst/>
          </a:prstGeom>
          <a:solidFill>
            <a:srgbClr val="996633"/>
          </a:solidFill>
          <a:ln w="0">
            <a:noFill/>
          </a:ln>
          <a:effectLst>
            <a:outerShdw dist="17819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te: Preliminary 2000 census data for population and race data. No census data exists regarding distribution of residents in different district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304560"/>
            <a:ext cx="7940520" cy="7030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Demographics  Captured by the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1371600"/>
            <a:ext cx="601992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w long respondent has lived in Maitlan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371600"/>
            <a:ext cx="22860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n 17.4 y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181480"/>
            <a:ext cx="6476760" cy="75888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dents who have children under 18 years old living at 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5181480"/>
            <a:ext cx="1600200" cy="7621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.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2320" y="6073920"/>
            <a:ext cx="2057400" cy="6397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an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6040" y="6073920"/>
            <a:ext cx="1981080" cy="6397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n 1.8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438280"/>
            <a:ext cx="2209680" cy="114300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formal school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438280"/>
            <a:ext cx="5029200" cy="259092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 than HS .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School 1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College 23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ge Graduate 38.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duate or Professional Degree 25.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733920"/>
            <a:ext cx="2209680" cy="990360"/>
          </a:xfrm>
          <a:prstGeom prst="rect">
            <a:avLst/>
          </a:prstGeom>
          <a:solidFill>
            <a:srgbClr val="b09800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n In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$63,7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90920" y="14475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idents feel the quality of life in Maitland is very good or go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57200"/>
            <a:ext cx="7848720" cy="68580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Quality of Life in Mait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514600"/>
            <a:ext cx="5638680" cy="3682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ly identical with the 1996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44792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14600"/>
              </a:gs>
              <a:gs pos="50000">
                <a:srgbClr val="b09800"/>
              </a:gs>
              <a:gs pos="100000">
                <a:srgbClr val="514600"/>
              </a:gs>
            </a:gsLst>
            <a:lin ang="5400000"/>
          </a:gradFill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95.5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048120"/>
            <a:ext cx="25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9 Orange County and 2000 City of Eustis Survey asked how much citizens agreed with the statement “the quality of life in Orange County/City of Eustis is good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2971800"/>
          <a:ext cx="6476760" cy="32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647676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76520" y="632448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533520"/>
            <a:ext cx="7848720" cy="68580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Maitland as a wh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447920"/>
            <a:ext cx="7238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early half of the residents response to how they feel “The City of Maitland as a whole is” </a:t>
            </a:r>
            <a:r>
              <a:rPr b="0" lang="en-US" sz="2900" spc="-1" strike="noStrike">
                <a:solidFill>
                  <a:srgbClr val="f4e300"/>
                </a:solidFill>
                <a:latin typeface="Impact"/>
              </a:rPr>
              <a:t>getting better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90720" y="2895480"/>
          <a:ext cx="792468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79246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38080" y="2819520"/>
          <a:ext cx="777240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772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990720" y="304920"/>
            <a:ext cx="784836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1430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s trust city government to do what is right most of th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1219320"/>
            <a:ext cx="13716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3.7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71680" y="6080040"/>
            <a:ext cx="5113440" cy="92160"/>
          </a:xfrm>
          <a:custGeom>
            <a:avLst/>
            <a:gdLst/>
            <a:ahLst/>
            <a:rect l="l" t="t" r="r" b="b"/>
            <a:pathLst>
              <a:path w="3221" h="58">
                <a:moveTo>
                  <a:pt x="0" y="58"/>
                </a:moveTo>
                <a:lnTo>
                  <a:pt x="3139" y="58"/>
                </a:lnTo>
                <a:lnTo>
                  <a:pt x="3221" y="0"/>
                </a:lnTo>
                <a:lnTo>
                  <a:pt x="82" y="0"/>
                </a:lnTo>
                <a:lnTo>
                  <a:pt x="0" y="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6000" y="5749920"/>
            <a:ext cx="4853520" cy="457200"/>
            <a:chOff x="2286000" y="5749920"/>
            <a:chExt cx="4853520" cy="457200"/>
          </a:xfrm>
        </p:grpSpPr>
        <p:sp>
          <p:nvSpPr>
            <p:cNvPr id="148" name=""/>
            <p:cNvSpPr/>
            <p:nvPr/>
          </p:nvSpPr>
          <p:spPr>
            <a:xfrm>
              <a:off x="228600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064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3072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1352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1360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3916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143000" y="2362320"/>
            <a:ext cx="74674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 in Government Compa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6248520"/>
            <a:ext cx="70102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ty of Eustis respondents to question with “strongly agree and agree”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124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Mait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3657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Eust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41148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648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5181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3:12:52Z</dcterms:created>
  <dc:creator>Amy</dc:creator>
  <dc:description/>
  <dc:language>en-US</dc:language>
  <cp:lastModifiedBy>Congessional Quarterly</cp:lastModifiedBy>
  <dcterms:modified xsi:type="dcterms:W3CDTF">2001-08-03T13:02:26Z</dcterms:modified>
  <cp:revision>154</cp:revision>
  <dc:subject/>
  <dc:title>PowerPoint Presentation</dc:title>
</cp:coreProperties>
</file>